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63C-75E3-4A9E-BC23-9175A26E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04C-F0B2-4203-BA0E-C8CBF879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C67-F8F9-4419-8A35-35F63772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234-0A64-454F-A66A-A66A0481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90F-EAF6-409E-85B3-85B36FBC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7D1-0177-4DC1-97EB-F5D508E5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A9FE-7E7C-4B75-BC52-AF2AE190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5D00-FD4D-40A3-A69C-772F5F61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F3ED-11D4-4278-A5EE-DE05C9A4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B8D-844A-4A68-B437-EF87D144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DE6-D8D1-4A2E-A387-324E3F9F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A32-4CCF-451E-8619-67D80FF4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255E-4C60-4B50-B490-718A6DF6A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ueva Std"/>
              </a:rPr>
              <a:t>This is Just To Say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ueva Std"/>
              </a:rPr>
              <a:t>By AC and Al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Penguin h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6477120" y="3505320"/>
            <a:ext cx="2666880" cy="198324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 have met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engu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at were in Antarctic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id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28600" y="1981080"/>
            <a:ext cx="2666880" cy="279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which were sliding on their  tumm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ere probably wondering where I w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arto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5638680" y="3352680"/>
            <a:ext cx="31244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give 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left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e the pengu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Father and son on Flickr - Photo Sharing!."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lcome to Flickr - Photo Sha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7 Apr. 2009 &lt;http://www.flickr.com/photos/minebilder/350687732/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Penguin invasion! on Flickr - Photo Sharing!."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lcome to Flickr - Photo Sha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7 Apr. 2009 &lt;http://www.flickr.com/photos/straymuffin/89009605/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pinguin on Flickr - Photo Sharing!."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lcome to Flickr - Photo Sha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7 Apr. 2009 &lt;http://www.flickr.com/photos/28089309@N07/2618357729/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at www.bibm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2:47:51Z</dcterms:created>
  <dc:creator>Lakeview</dc:creator>
  <dc:description/>
  <dc:language>en-US</dc:language>
  <cp:lastModifiedBy>cyndi.vander_ven</cp:lastModifiedBy>
  <dcterms:modified xsi:type="dcterms:W3CDTF">2009-04-27T01:44:29Z</dcterms:modified>
  <cp:revision>4</cp:revision>
  <dc:subject/>
  <dc:title>This is Just To Say..</dc:title>
</cp:coreProperties>
</file>